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3A0-A48E-4213-8BC1-6F19FF15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E3D-921E-48AA-9442-0909662F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F98-18FA-4666-8B0E-0EBCD17D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FD9-94F6-4CC8-9CDC-194487B6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AAC2-CEA0-42CA-B3AF-5FA38068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D13B-3B5A-4C53-8AB1-E8E1D2E6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BF8D-D9BC-4DF7-BADD-F55C2821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F24F-F3BE-40D8-BBBC-AD9BCF07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C598-B96B-4521-963B-6C1DF31D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6780240" cy="88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FE47-7E7E-491E-B65A-B9784BDF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D3D1-4C6A-4A39-8BBD-D305D66D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C6A-F267-4409-A4CD-B0E1A025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4631-EBDF-4B52-845D-C2D5D001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9BAB-A737-477B-BD8F-ED30D209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1C4B-F14B-4A2F-922F-87DB2304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45B7-4D44-49C5-B57E-93AF49B1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14F9-10F5-4025-A274-B52D1733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E5C-27A1-48B8-8644-DAA39C8A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6E7C-44F7-4640-9E90-6040A80D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3B1-18EB-4A2C-8C81-2ECAB69A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6780240" cy="88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B3D-981E-4CF4-A131-E08067BE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144-E6BF-4166-B668-93443C28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19B-E8B0-4A63-B315-ABFD4D2A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72D-9ABE-437F-ABBF-3776F8AD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7821720" y="0"/>
              <a:ext cx="132084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09480"/>
              <a:ext cx="9142560" cy="11430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1DC1-FFE6-4294-8C2A-E6C4F6233618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4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2084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0" y="1828800"/>
                <a:ext cx="9142560" cy="190512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457200" y="1327320"/>
              <a:ext cx="1828800" cy="19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03AD-8245-49D1-A503-0712BC9BFC70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720" y="304920"/>
            <a:ext cx="6780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. 15, 2011 Warm-up: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438280" y="16761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: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.942 + 3.932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835.52 - 184.5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4.45 ÷ 11.398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3.393 x 74.25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2 Household Budge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bjective:  Students will perform all operations with decimals while managing household expenses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780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Basics: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1192320"/>
            <a:ext cx="584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ach group will be a family keeping track of the family finances while completing real world activities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ach day, your family will receive an envelope of bills, receipts, paychecks, grocery lists, etc.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e family will work together to decide how to handle the contents of the envelope, making deposits and withdrawals to the check register keeping track of the budge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t the end of the week, the family records will be turned in for a grade.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3760" y="380880"/>
            <a:ext cx="6780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bric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819520" y="1467000"/>
            <a:ext cx="5943600" cy="39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 will be based on accurately performing the correct operations with each activity: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ying bills (1 pt/bill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rding debit card withdrawals (1 pt/each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ositing checks (1pt/check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cery Shopping Activity (4 pts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ting Out Activity (4 pts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             /20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rd Keeping…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057040" y="289512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File Includes: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Register Pag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pt Envelop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780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Started: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133720" y="609480"/>
            <a:ext cx="68580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: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a regist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it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 (Each family will begin with $528.32)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Check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to the Order of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and word form (fraction)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osit Slip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osit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Cash Received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Deposit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17 ODD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0:58:55Z</dcterms:created>
  <dc:creator>Brian McGrath</dc:creator>
  <dc:description/>
  <dc:language>en-US</dc:language>
  <cp:lastModifiedBy>Brian McGrath</cp:lastModifiedBy>
  <dcterms:modified xsi:type="dcterms:W3CDTF">2011-11-15T02:36:16Z</dcterms:modified>
  <cp:revision>3</cp:revision>
  <dc:subject/>
  <dc:title>Course 2 Household Budget</dc:title>
</cp:coreProperties>
</file>